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0033-53B9-49E7-880A-3E7FA2A3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120" y="38390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8576-8AAB-457F-8F04-95F02595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8800" y="38390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3E60-88CF-49F4-9FF8-14E1245D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4520" y="13712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9920" y="13712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120" y="38390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4520" y="38390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9920" y="38390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F7CA-32AD-46C8-814F-67D8CCD8A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ABD-71FA-439A-A735-1A102628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B8AF-991F-4D7D-A235-35C2C668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56A2-089B-4F98-A73F-95425C23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E363-0B96-49ED-9672-B2C856A0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3410-222E-44B5-9683-F1F71D37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84F5-D3EC-4AD0-9F2E-39AF4B3C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8800" y="38390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4FDF-DBB2-4D8E-9AC8-AB6F0D92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2B9D-06DB-4D69-A654-A6251B6A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4876920"/>
          </a:xfrm>
          <a:prstGeom prst="rect">
            <a:avLst/>
          </a:prstGeom>
          <a:gradFill rotWithShape="0">
            <a:gsLst>
              <a:gs pos="0">
                <a:srgbClr val="5e5e46"/>
              </a:gs>
              <a:gs pos="100000">
                <a:srgbClr val="cc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57200" y="1143000"/>
            <a:ext cx="8229600" cy="182520"/>
            <a:chOff x="457200" y="1143000"/>
            <a:chExt cx="8229600" cy="182520"/>
          </a:xfrm>
        </p:grpSpPr>
        <p:sp>
          <p:nvSpPr>
            <p:cNvPr id="2" name=""/>
            <p:cNvSpPr/>
            <p:nvPr/>
          </p:nvSpPr>
          <p:spPr>
            <a:xfrm>
              <a:off x="6874560" y="1143000"/>
              <a:ext cx="1811880" cy="182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" y="1219320"/>
              <a:ext cx="8229600" cy="0"/>
            </a:xfrm>
            <a:prstGeom prst="line">
              <a:avLst/>
            </a:prstGeom>
            <a:ln w="190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1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14040" y="6400440"/>
            <a:ext cx="1981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52320" y="6324120"/>
            <a:ext cx="2971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6495-4827-4818-8E41-62C69AEC5D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4876920"/>
            <a:ext cx="45720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1523880"/>
            <a:ext cx="7086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"/>
              </a:rPr>
              <a:t>ICD-9-CM Procedure Code for Anular Repair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4267080"/>
            <a:ext cx="4876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inald Davis, MD, F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ef of Neurosurgery          Greater Baltimore Medical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29718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D-9-CM Coding &amp; Maintenance Committee September 27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9DCA-2D6B-481B-B9AD-11FE78FE59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12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re-operations and improve patient outcome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ting nucleus material from re-extrudin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ing inflammation and scar formatio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0,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ing less extensive disc remov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21957" t="39335" r="32211" b="32222"/>
          <a:stretch/>
        </p:blipFill>
        <p:spPr>
          <a:xfrm>
            <a:off x="2971800" y="3124080"/>
            <a:ext cx="3048120" cy="2322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Why Repair the Anulus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5781600"/>
            <a:ext cx="89154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uthen, JC. Chapter 11. Microsurgical Anular Reconstruction (Anuloplasty) Following Lumbar Microdiscectomy: pp 155-177 . In: Spinal Arthroplasty; A New Era in Spine Care, Guyer RD, editor. St. Louis MO: Quality Medical Publishing, 200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wakami M, et al. The Role of Phospholipase A2 and Nitric Oxide in Pain-Related Behavior Produced by an Allograft of Intervertebral Disc Material to the Sciatic Nerve of the Rat. Spine 22(10):1074-1079, 199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marker K, et al. Pathogenesis of Sciatic Pain: Role of Herniated Nucleus Pulposus and Deformation of Spinal Nerve Root and Dorsal Root Ganglion. Pain 78(2):99-105, 1998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ragee et al.  A Prospective Controlled Study of Limited Versus Subtotal Posterior Discectomy:  Short-Term Outcomes in Patients with Herniated Lumbar Intervertebral Discs and Large Posterior Anular Defect.  Spine 2006: 31:  pp653-65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C865-A64A-43FE-BD37-733D1845C9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Current Procedure Option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urgical Suture Re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 Tissue Re-Approximation Repair With Tension B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gical Mesh Re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629400" y="4876920"/>
            <a:ext cx="1739880" cy="1752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752480" cy="1676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rcRect l="8627" t="25790" r="29001" b="8864"/>
          <a:stretch/>
        </p:blipFill>
        <p:spPr>
          <a:xfrm>
            <a:off x="6629400" y="1447920"/>
            <a:ext cx="1752480" cy="1450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203E-5165-45B6-99F1-B9037B4639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Microsurgical Suture Repai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49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ly difficult and time consuming (approx 45 minut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 often achieves closure with two or three 4-0 absorbable sutures with manual knot t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cial autograft may be used to augment the rep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year human clinical data has shown a 68% reduction in reop rates.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3009960" cy="2460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457200" y="6172200"/>
            <a:ext cx="82836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uthen, JC. Chapter 11. Microsurgical Anular Reconstruction (Anuloplasty) Following Lumbar Microdiscectomy: pp 155-177 . In: Spinal Arthroplasty; A New Era in Spine Care, Guyer RD, editor. St. Louis MO: Quality Medical Publishing, 2005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E4B-93C2-49D9-95F9-102F355BA6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Soft Tissue Re-Approximation Repair with Tension Band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5715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 tissue is re-approximated with the use of Tension Band System consisting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 tissue T-anc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ion l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ed delivery tools facilitate placement and inser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allows for easier and more efficient repair than microsurgical sutu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77120" y="1600200"/>
            <a:ext cx="1746000" cy="1854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24480" y="3809880"/>
            <a:ext cx="2163960" cy="228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543800" y="38862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-Anch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7584120" y="4133880"/>
            <a:ext cx="14760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001000" y="41911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48520" y="5791320"/>
            <a:ext cx="144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nsion 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934320" y="525744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934320" y="54864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2383-DBD3-42D9-90DF-21D89EADED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Surgical Mesh Repai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49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6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gical Mesh System consists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3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ester (PET) m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3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hor band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ed delivery tools facilitate placement and inser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h system allows for repair of larger size defects than microsurgical suturing or tension band rep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868480" cy="2892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EEAA-C917-401A-9730-B4D0BBE0AD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ular repair following lumbar discectomy is a worthwhile procedure to improve patient outc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, surgeons are beginning to repair the anulus fibrosus by using various procedure o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4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ique ICD-9-CM procedure code(s) exist to report use of instruments and insertion of devices to repair the anulus fibros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C04-338E-482D-966B-5D215F3DD9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361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FECD-2CB2-4342-8B22-3BCC44B9E2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Speaker Background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nald Davis, MD, F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nder of Baltimore Neurosurgical Associates, Baltimore, M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ef of Neurosurgery at Greater Baltimore Medical Cen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ulty Member at John Hopkins School of Medicine and University of Maryla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llow of the American College of Surge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plomate of the American Board of Surge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08CE-18A4-4892-9F88-79F41546F0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Anular Repair Application Summa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submitted by David Wong, M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pedic Spine Surgeon, Denver 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t President, North American Spine Society (N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code creation to report repair of the anulus fibrosus with graft or prosthesis,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urgical suture re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 tissue re-approximation repair with tension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gical mesh re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1F4D-F200-49BE-BD4F-83A83DD2DB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Issue Summa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ular Repai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bar discectomy surgery is performed to remove a herniated disc of the sp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onally, an open pathway was left in the anulus following discectomy surg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, surgeons are beginning to repair the anulus fibros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ing Iss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codes exist for discectomy, there is no unique code(s) to report use of instruments and insertion of devices to repair the anulus fibros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19660" t="24720" r="19611" b="23596"/>
          <a:stretch/>
        </p:blipFill>
        <p:spPr>
          <a:xfrm>
            <a:off x="6172200" y="1981080"/>
            <a:ext cx="2654280" cy="27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83D3-68ED-46DB-A63F-E3CA986C77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Background – Lumbar Disc Anatom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c is Comprised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ucleus Pulpos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oft, gel-like inner sub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ulus Fibros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ough, outer ring that contains the nucleus pulpo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635" t="20337" r="15139" b="20337"/>
          <a:stretch/>
        </p:blipFill>
        <p:spPr>
          <a:xfrm>
            <a:off x="5410080" y="1828800"/>
            <a:ext cx="3200400" cy="3139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12D2-EA59-486C-A4B7-39E8F5A03B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Background – Herniated Disc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niated Dis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11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pture or protrusion in anulus fibro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11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 compresses nerve root causing p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7867" t="17336" r="20728" b="36111"/>
          <a:stretch/>
        </p:blipFill>
        <p:spPr>
          <a:xfrm>
            <a:off x="5257800" y="1828800"/>
            <a:ext cx="3279600" cy="3051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DBB0-60B3-444A-B758-CFC7F0DAC1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Background – Lumbar Discectomy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267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bar Discecto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gical procedure to remove a herniated di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frequently performed spinal surg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UP data shows majority of procedures performed in the inpatient hospital setting.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18955" t="24524" r="30015" b="29733"/>
          <a:stretch/>
        </p:blipFill>
        <p:spPr>
          <a:xfrm>
            <a:off x="5562720" y="1676520"/>
            <a:ext cx="2909880" cy="3198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228600" y="6171480"/>
            <a:ext cx="70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en &amp; Anders, Ltd (2002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F43A-1913-4A6A-B8A6-D82C9A3064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Discectomy Clinical Outcom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bar discectomy surgery is a well accepted procedure with a proven track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still room for improved 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8% of patients continue to suffer from back or leg pain following discectomy surgery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,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patients either continue with conservative treatment or require a re-oper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5942880"/>
            <a:ext cx="7010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upasis et al.  Seven-to-20-Year Outcome of Lumbar Discectomy.  Spine 1999;24:  pp 2313-231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uthen et al.  Economic Impact of Improving Outcomes of Lumbar Discectomy.  Study presented at the 23rd Annual Meeting of the AANS/CNS Section on Disorders of the Spine and Peripheral Nerves.  Phoenix, AZ – March 200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7306-0C6D-48B6-A53F-E6AF9475E4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ectomy Reoperation Rat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2666880"/>
          <a:ext cx="7467480" cy="2081160"/>
        </p:xfrm>
        <a:graphic>
          <a:graphicData uri="http://schemas.openxmlformats.org/drawingml/2006/table">
            <a:tbl>
              <a:tblPr/>
              <a:tblGrid>
                <a:gridCol w="1366560"/>
                <a:gridCol w="1438560"/>
                <a:gridCol w="1422360"/>
                <a:gridCol w="1420560"/>
                <a:gridCol w="1819440"/>
              </a:tblGrid>
              <a:tr h="394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-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Op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Pati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tario, Can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hington 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l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of M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er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l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of M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380880" y="63244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5334120"/>
            <a:ext cx="830556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u R, et al.  A Population Based Study of Reoperations After Back Surgery. Spine 1997;22:2265-2271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alter A., et al.  5-Year Reoperation Rates After Different Types of Lumbar Surgery.  Spine 1998;23:814-820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las S., et al.  Surgical and Nonsurgical Management of Sciatica Secondary to Lumbar Disc Herniation:  Five-Year Outcomes from the Maine Lumbar Spine Study.  Spine 2001;26:1179-1187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sterman H., et al.  Risk of Multiple Reoperations After Lumbar Disecectomy: A Population Based Study.  Spine 2003;28:621-627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las et. al.  Long-Term Outcomes of Surgical and Nonsurgical Management of Sciatica to a Lumbar Herniation:  10 Year Results from the Maine Lumbar Spine Study.  Spine 2005;30:927-935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5238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, published, population based studies report re-operation rates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9-25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in 5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39C8-92C3-406B-8E68-1F78787088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5:45:13Z</dcterms:created>
  <dc:creator> </dc:creator>
  <dc:description/>
  <dc:language>en-US</dc:language>
  <cp:lastModifiedBy> </cp:lastModifiedBy>
  <dcterms:modified xsi:type="dcterms:W3CDTF">2007-09-11T18:46:16Z</dcterms:modified>
  <cp:revision>100</cp:revision>
  <dc:subject/>
  <dc:title>Lumbar Discectomy:  New Surgical Advances  Dr.__________ Hospital________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61471880</vt:r8>
  </property>
  <property fmtid="{D5CDD505-2E9C-101B-9397-08002B2CF9AE}" pid="3" name="_AuthorEmail">
    <vt:lpwstr>Marilu.Hue@cms.hhs.gov</vt:lpwstr>
  </property>
  <property fmtid="{D5CDD505-2E9C-101B-9397-08002B2CF9AE}" pid="4" name="_AuthorEmailDisplayName">
    <vt:lpwstr>Hue, Marilu (CMS/CMM)</vt:lpwstr>
  </property>
  <property fmtid="{D5CDD505-2E9C-101B-9397-08002B2CF9AE}" pid="5" name="_EmailSubject">
    <vt:lpwstr/>
  </property>
  <property fmtid="{D5CDD505-2E9C-101B-9397-08002B2CF9AE}" pid="6" name="_NewReviewCycle">
    <vt:lpwstr/>
  </property>
</Properties>
</file>